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EC2-B0FD-443F-83B2-A614B71B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470-45E5-4757-B0D0-A92B30F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4F6-84D8-4688-90B0-9376727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10C-E3B9-4A7E-946F-19CB5EFB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357B-6094-4550-9223-9906E989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A35F-C153-4EDE-AE61-4D58BE4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E471-0295-4B46-8F19-5D41411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E0B-EDE3-4E06-8C47-0A7C5A5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128D-50C2-4A92-9BCE-B6F6757E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028E-E236-4A04-A08D-4215CA06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F35C-A719-4B39-BD2A-76F7E32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520-5FE6-414A-A5C0-767A4119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D00-6FD9-4987-8C7A-7BEA1DD4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FC39-1FF3-45E4-A67B-AC379E5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4E8A-3E0A-499A-8FA4-8698A050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412-A433-4678-8FF4-16B5A652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EBE-6EC4-4E2E-AF4A-D5662F9D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44D-29FD-4EF0-B462-5CEF125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B1F-5174-403A-82DC-A323F054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FF4-DA17-46E3-AA7B-6A758B3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F8B-1836-4310-A3F9-CD1BF5B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130-0055-42C5-870C-65CEC66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9B5-A1C0-4DBA-8F05-2FE0B52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70A-44A4-4B5A-A95D-36F7589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648-9463-47E1-A3A8-34310B1F1544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0B8B-2BD7-4150-BF26-613D088B0B4C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66"/>
                </a:solidFill>
                <a:uFillTx/>
                <a:latin typeface="Handwriting - Dakota"/>
              </a:rPr>
              <a:t>Coralin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90760"/>
            <a:ext cx="556272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By: Neil Gaiman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resentation by: E.O.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sons why you should read this boo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age turner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dventure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 girl who can outsmart other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1280880" cy="156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d alou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54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71800" y="1905120"/>
            <a:ext cx="2644920" cy="39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819520" cy="2271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30:51Z</dcterms:created>
  <dc:creator>cysd</dc:creator>
  <dc:description/>
  <dc:language>en-US</dc:language>
  <cp:lastModifiedBy>Tiffany Brewer</cp:lastModifiedBy>
  <dcterms:modified xsi:type="dcterms:W3CDTF">2008-11-25T23:14:35Z</dcterms:modified>
  <cp:revision>4</cp:revision>
  <dc:subject/>
  <dc:title>Coraline</dc:title>
</cp:coreProperties>
</file>